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E1F-8AC0-49F7-8062-ABAED766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852C-B11A-4A52-8728-3977E2D2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8F60-EB54-45B4-A5C0-83E20D0F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DDE7-C1EE-4457-A597-FFB98490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81B-805C-4491-9320-ADCF9820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386-9BBB-4AE2-8446-E09FB2F3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9A22-CBF8-465A-980F-22F660A3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77B-F872-4AFE-AAA8-9809C824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805-6201-40E2-B42E-3D370D1C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14AB-3EE1-4303-80CF-4DB4A17C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23C-95B3-458E-91D2-D42558A0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D8F-BB54-40EF-9462-AE366577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D86B-9224-4CAB-91FA-6FC494AE4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courty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4632480" cy="3475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95640" y="1052640"/>
            <a:ext cx="46911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school 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4608360" cy="3457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148360" y="3645000"/>
            <a:ext cx="3779640" cy="2835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500720" y="189000"/>
            <a:ext cx="44161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struc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65660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g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03640" y="260280"/>
            <a:ext cx="2286000" cy="2793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4392720" cy="3295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067280" y="3284640"/>
            <a:ext cx="4732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665172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4778280" cy="3584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2998800"/>
            <a:ext cx="475128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211640" y="907920"/>
            <a:ext cx="374328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edenkopf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 small t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Hesse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out 8.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87640" y="1557360"/>
            <a:ext cx="59770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ur sch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 „Gymna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um“ of 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.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02200" y="333360"/>
            <a:ext cx="5041800" cy="3781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4032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t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666108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 the teachers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4751640" cy="356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284720" y="54936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 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658836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fe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64357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the hall during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4562640" cy="3422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40360" y="404640"/>
            <a:ext cx="45640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8:02:18Z</dcterms:created>
  <dc:creator>NPP</dc:creator>
  <dc:description/>
  <dc:language>en-US</dc:language>
  <cp:lastModifiedBy>St.- Canisius</cp:lastModifiedBy>
  <dcterms:modified xsi:type="dcterms:W3CDTF">2008-06-04T13:35:19Z</dcterms:modified>
  <cp:revision>10</cp:revision>
  <dc:subject/>
  <dc:title>Lahntalschule Biedenkopf</dc:title>
</cp:coreProperties>
</file>